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B6F-08B1-4B44-BC73-63170668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DD0-C63B-4D59-BDE9-A44FD919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F3359-59E9-4BDB-9F00-CAF3D203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11579-2995-4F1D-886A-9688B28B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B7B2A-D129-493A-8C1B-DECE4662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7B284-CAF6-44A2-9747-8AEDA60A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692C6-9E16-4C95-B0BD-92B14FB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974BE-289A-4EFB-BC94-A5025D07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D2029-1E13-4CF7-B6C7-6F5A59A0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FA560-28C9-445B-8371-D32A79C6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184F1-729B-4464-ABE4-41B1538C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30B88-7259-4497-9A1C-3C032C40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BF3-8864-49D8-A121-8B52DF92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9BEE2-A7FC-41BF-8FB4-E35ECDC7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28C30-D22A-4111-AB87-4D2F8FE9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B9B08-43FD-4602-9B69-EDF550C9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F91AF-CE52-41B3-B84F-261DBDD0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6D91D-7BA6-4C20-ADFB-9046730C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DFF2A-C42E-4F23-A65C-7A52916A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C002E-477B-4C64-A9EB-45013C3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2B425-1C0A-4495-A816-A8D697DC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F7E24-D63B-46C5-80A0-C3DC2ED9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2B62D-53DD-4066-84B3-BA940059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60B-2BDF-4B8E-BC59-2873895B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12FE8-D086-4EDC-8F56-264F15DC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97054-D7C9-4900-AD5D-B8BB3CA8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98643-1D52-4B1A-BD92-DE625565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D7A5A-6A57-4A7E-8F16-86EDD6EB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14B81-A968-458F-BFFD-3A254636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81F5E-335F-4E62-BCE4-33DFF86F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6C7F6-E236-4E64-AACB-D40815A7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21BE8-A910-43BA-87DE-961EAF23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ED685-E939-4271-A596-FF655AC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EA0FC-A8D8-4DB5-A477-DD5F3CBD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3B17-3344-4ABB-A404-6CA890AF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01C90-A56D-4930-9DD5-D85D308C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62DD7-A420-4177-B07A-614E3D48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22A3D-5BC1-4DFC-90AF-6383A945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BF135-2F66-49DA-A2E7-9D5F9C9B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F3D69-70C7-4792-B6B8-B9315D01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862DB-AAF3-4635-BEAB-768D754A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6F5F4-6675-4AE3-826D-4206BDC4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67F7B-EAD6-41BE-B6A6-58474907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A19EB-7661-4F37-AC8C-DBE4A46B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C9D38-DE8E-4500-A350-A3CA13A6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2EDC-D902-4ABA-98AF-A37FBE8C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1DF0D-330E-43E5-8A3C-B314510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D1BE3-DA5E-42BB-BB8F-27937EE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2020C-106A-48BA-ACB7-521970EB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A5C38-0870-4CBB-8EFB-EDBB3EDB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DA9C8-FD20-4F83-847C-80B544DC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3E40-AD58-442B-B5C2-9A5D0883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EA10-CDD9-4567-8FE4-356EA1C6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29D5-5642-446E-8D5E-67BFF998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8672-DAFC-4400-B86C-9A944FE0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6852-4612-4346-A566-3B8B6CDE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728-6EC5-433E-B740-70F7C25A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A777-BF1A-4C59-A10D-75D7A319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26B5-3F1F-44BE-898D-0AAE3507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39A2-455F-41E2-8FCF-06096FE0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F99F-A244-4176-A643-1FB5ED6B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9499-5878-4969-933F-DB7533A8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68C39-DA49-457D-AADA-E31CA1C3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CEB66-B4F0-4F3E-BD7E-A10FE9EE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1B31-B0BF-4D46-8870-285DEF7E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636D-CEE8-4217-AC8E-A9DBA607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395F-7DDD-4866-BCB1-9AF79F40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21D-14A9-4E7C-8FE8-B53DE15C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B0744-8F1E-4BF8-A2E1-EFAACAA3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CC83-C02C-4510-BDB4-DA296CF0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009C-F2B0-4A54-A628-FCAD9AE6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7BE69-CE9A-4D41-8798-3FB8D970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F72C-2888-4DC3-8C41-B4762041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BC2D-FC41-4385-9B4E-E975D06F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1B88-20C1-4A0B-9898-1EA30EF5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7162A-EF13-4DD4-93A2-6670A793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372E1-D110-4D66-AB32-5B69197D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8313-FCA6-4BE6-9196-A311FF3A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6AB7-8CB9-4975-A159-CCE799A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C0E0-DCF9-4D51-9F8C-9ED0DD84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17B0-DEDB-4A58-8669-86F62A91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E5A61-622F-4DF9-8617-870FFFE4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7DBB-2312-4F8B-9113-A9D9A6B1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40146-163C-4851-87DE-4A654E2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04FF1-7D9A-4870-8D04-711D594A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D83D-A344-4001-A0DC-B03FAE67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130D-B93D-4E38-BDB5-F94F3A13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66DA-F33B-48C2-BDE7-D7302D3E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C5B9-F8AA-4EB4-A8A5-FAE9FBF0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9AD-C7B6-48C3-9DFA-9C524C97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39D72-4EAA-4C74-A042-8E496AAF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4BA2B-3898-4F7B-A5C6-159E4CDC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1B33E-E65D-46F2-B84D-FAA3EB98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B6F0-8366-4C61-8B0A-9F5F5DFB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0669C-E6EA-4204-BACF-6C7108CD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D596D-AD6A-440A-8DD3-112C5E7C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5D9AD-3883-4475-9C6B-457DE49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61194-77DE-4068-BB17-0B31557D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D692-89F3-47D0-B1E7-D4D49073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A1624-5C2A-4DE9-B800-BC27C0FF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D88-E7A3-4BE4-B346-D80BE9F0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824E8-AFF3-472E-ADEE-E93F29F6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D5D84-2AE8-4EF4-955E-E547B49F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A5F3E-EDB4-4C22-9573-B20FDE7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7DD8C-001F-4F12-A8B7-1B8914AE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0519B-D4F4-4EA1-B513-C896377C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8DD85-A573-4A70-B910-7FA48F36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47E41-5CC2-4A01-9E4C-1E8BC242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8D0D0-9213-4FF4-A200-DA2A7253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F4418-53C5-4C33-916A-79BA35DA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824F3-624D-4BF1-A538-DC3A891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7F0-B5FC-48EF-817D-D92E5FB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43A5B-B1FA-49A7-89DD-97A73CB3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C7EA1-9102-4B05-AECA-0813B7FC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C9C4D-A669-4B78-BAF0-D4F74008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E695B-AD2B-4DAA-9D5F-39378649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864F7-0869-4990-9CCE-B3F035D7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81415-6894-4B26-A4FC-0A74C31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DB19A-59BB-4929-9A77-550B22A4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5BC9D-07B6-4096-8C7D-6573920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7C7D9-18EA-4270-AAE8-25E3EEAD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60025-B547-4C3A-9710-BDD3F73E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B42-61FC-463A-9602-BFA21A02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8403A-96A8-48E4-92AA-27C8DD6E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B7F91-1E8F-4C40-A0B6-124EAB35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51F2-33A8-411C-850B-E96467AB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37CCB-130B-45B5-9245-18A77348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71D7C-435F-4ECC-90F2-920E4DC3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3DE29-AB2D-439D-A780-A7ECDA9D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149BD-C9B6-4CC3-8AE9-AB3C0B7B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09DEA-1288-448B-903A-DA7050E3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78310-F0A3-4D8C-84FA-2CEB0AC1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F5F7C-ED36-4DDA-BEC5-64E2627D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261-AF0A-427F-A9C7-72EB7146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80719-CD26-45B8-A100-C7A64F0C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AB2BA-AB67-4744-B8A7-53388E64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A47EC-CC29-49C9-A085-8E8654CB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AC4B8-999F-457F-85D3-F2C89449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C38C0-F3D3-4521-8199-6754C956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A06D1-F1A2-490D-943C-EBE6BE62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0F486-E104-41F7-A663-57293A3D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51110-FA26-48D9-9D2D-904E6A79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85EBE-E765-4B11-B250-05368BAE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2147A-7ED1-43C4-B11E-925D53C7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A8D8-2F93-4FFE-9FC2-988062112D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DAF3-CFF8-490B-919A-531D95CACC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9AF2-62FC-4555-92B0-176BBFCD4A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5AC3-0673-40D0-972A-378716DB6B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4E21-27C8-4DBE-80D1-E44A2225A9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1731-43C0-492A-B411-5DB74F7071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A89-81ED-4526-8F30-FE4EBA0398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C403-4A67-4A74-A69A-C9A20E4CEA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0343-A7F8-4C4A-94F0-472CEFD71C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FBE4-6AF5-45A7-8B51-CA00F78DC3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C662-70F1-4A43-948A-A86DE838A1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628D-DEE9-428D-AA3A-1E846492D69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73 Chcem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 dnes, Pane, veleb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obzvlášť dne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e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sobot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uch tvoj ma mocne oslov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elého nech ma posvä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 ochotnej sl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e, obeti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dc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duša Pán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hvál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mi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||</a:t>
            </a:r>
            <a:br>
              <a:rPr sz="4600"/>
            </a:b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m ťa dnes, Pane, veleb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e s ľudom tvoj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iem t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deň, ktorý ty si oddel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 odpočinok posvät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dc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duša Pán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hvál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mi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esť, vďaka tebe patrí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milosť novú deň čo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že smel som šesť dní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prac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to ti chcem dnes chválu vz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dc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duša Pán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hvál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mi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íš v duši mojej každý ru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rdce mi otvor, zbystri sluch;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hcem Slova tvojho počuť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poznať spásy vzácn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dc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duša Pán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hvál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mi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8:03:47Z</dcterms:modified>
  <cp:revision>24</cp:revision>
  <dc:subject/>
  <dc:title>Je veľký náš Pán, on slávy je Kráľ Nech do všetkých strán  spev vrúcnych znie chvál.</dc:title>
</cp:coreProperties>
</file>